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5421-B5F2-4BC7-B8C3-6C0AC8D2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7E6-C2A8-4885-BD92-4F9D5BF9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1E18-C234-4021-AF6B-EFB3FFF9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987-3D6B-4D59-9818-D14AAAE9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7933-0E7A-44A5-AC4C-42D42278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CB40-AB26-4531-BBB9-C262410A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6E39-4708-4CFC-A6E6-2D2FCFEB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D154-3855-40E8-A21D-636B8B98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AA86-546E-4EF5-AB48-C14F8051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E3C3-8FDB-4B48-A69B-091140D8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9B78-BEC3-49A4-9E5E-3966332F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46A9-2E32-4B69-AE83-05CF6E70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81DA-4CBF-4B7B-A02E-DA2407F1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B73F-E68B-418A-B17F-FFFCA5E2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A63A-ABB1-413D-AD5F-289D303D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4419-147E-4F77-A94C-7825D44F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4A44-4035-4E0A-9BD0-0A259648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970-CFA0-4C67-B98E-068297C0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EA4-AF0C-4B5A-8E74-2B8EC9CA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21B-1294-42BA-8CB9-C987BD7F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466-6790-48A9-99BD-EFE09B47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F36-1A32-470E-B527-9E009201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3A6-00A7-47C9-BDAD-5980C683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1D9E-C838-45F7-ADD2-6F48A27B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CEB2-6162-4E86-A870-25B08AF7066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FE74-C05D-4CA5-AE12-8AAAC65BFDE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71640" y="1353960"/>
            <a:ext cx="763272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e s-ar petrece in intreaga lume daca nu ar exista CARTEA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500720" cy="51847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Scopul proiectului este de a arata elevilor,ca invatatura le este de folos in toate treburile vietii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Verdana"/>
              </a:rPr>
              <a:t>Cartea este obiectul cultural al elevilor.Ea realizeaza viitorul multor omeniri,si ii indruma pe drumul cel bu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06400" y="7128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97368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n elev pleaca de la scoala mai destept decat a venit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8320" y="2050920"/>
            <a:ext cx="403848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Rolul cartii este de a ajuta elevi in pasii catre noua imagine in viat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7320" y="1700280"/>
            <a:ext cx="43434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ara carte lumea ar vorbi foarte nepoliticos,urat sau chiar mai rau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319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Verdana"/>
              </a:rPr>
              <a:t>Aici proiectul s-a sfarsit iar eu va multumesc ca ati acceptat sa imi acordati putin timp in ceea ce am avut de spu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06400" y="7128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48320" y="2116080"/>
            <a:ext cx="403848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6:49:30Z</dcterms:created>
  <dc:creator>user</dc:creator>
  <dc:description/>
  <dc:language>en-US</dc:language>
  <cp:lastModifiedBy>user</cp:lastModifiedBy>
  <dcterms:modified xsi:type="dcterms:W3CDTF">2010-10-13T18:05:31Z</dcterms:modified>
  <cp:revision>3</cp:revision>
  <dc:subject/>
  <dc:title>Diapozitivul 1</dc:title>
</cp:coreProperties>
</file>